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E2E-3410-46F0-BD16-56D5771B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426708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9360" y="3797280"/>
            <a:ext cx="426708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AB4-4D5F-46EA-9E08-32EA9EB1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1936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0600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DC6-5D19-4C67-AA40-3FD37F94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62240" y="320004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05120" y="320004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19360" y="379728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862240" y="379728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05120" y="379728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7DB-2903-440D-8F7E-34538F2C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FEB8-31F3-41F3-A33A-25629070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19360" y="3200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3C61-839A-4433-A162-C43349A0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69B8-4B34-427D-A39E-12503E0F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9141-79BC-42A9-8D58-D7A15755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FDA0-7BBC-460E-8FC8-25C1E910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81280" y="1447920"/>
            <a:ext cx="5105520" cy="56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0780-D159-4C06-8FCF-461422EB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1936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0823-331D-4442-9902-398BA72D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19360" y="3200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46D-BE2B-408A-83CA-C3DED118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0600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2D16-6D88-4A05-873D-878BFBBD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19360" y="3797280"/>
            <a:ext cx="426708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3831-6AB8-4A31-A3C2-56C5A76D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426708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19360" y="3797280"/>
            <a:ext cx="426708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C675-4C61-4749-AAC3-BFDF89AE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1936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0600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0A6F-D54A-4D14-90E5-BC223CCE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62240" y="320004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05120" y="320004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9360" y="379728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862240" y="379728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305120" y="379728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E601-3857-4098-8B88-BE2C750B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642-6C52-467A-B4B3-E70F909B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C8F-EC3C-4859-BA47-B2E6AE81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4B9-5DA1-409D-8CD5-7B2852F6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81280" y="1447920"/>
            <a:ext cx="5105520" cy="56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234-4A6B-4EF7-89C0-1C527315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1936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F47-2F3B-49FE-91A7-104AF2E0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0600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D2F-E0FE-4F38-BEE2-DD5EBCAE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19360" y="3797280"/>
            <a:ext cx="426708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17E-1EDB-478F-976E-26D5D706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4495-EA99-4922-A7AE-E2FC13D9D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5621-B91C-4CA5-BB15-65019B8C5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4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4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Old English Text MT"/>
              </a:rPr>
              <a:t>Shakespeare’s England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419360" y="3200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nder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Countryside, rural areas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wealthier classes often had country estates and homes in the 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rms were becoming privatized, breaking away from the feudal system of land-l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veling through the country was very dangerous; roads were narrow and beset with band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Men, Women, &amp; Marriage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4419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riarchy - men were the traditional rulers of the household.  Upheld the social chain: God-Monarch-Lord-Husba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ogeniture - estates and wealth traditionally passed from father to eldest 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wry - cash, goods, and property passed from the father, through his daughter, to her new husband, to ensure a stable and profitable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Men, Women, &amp; Marriage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as taken as religious, social, and scientific fact that men were superior to women.  Often referenced the Old Testament or Paul’s letters as pro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4 humors: sanguine (blood), phlegmatic (phlegm), choleric (choler), and melancholy (black bile) were believed to rule the health and disposition of a pers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Men, Women, &amp; Marriage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as believed that because of menstruation, women were less able to keep the humors in bal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men were perceived as passionate, emotional, illogical creatu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riage was not about l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riage was a social contract that secured the survival and status of the participating famil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Men, Women, &amp; Marriage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verbal contract (or handfasting) was also perceived as marriage, even before the official ceremon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-marital intercourse did happen -- LOTS of shotgun weddings in Shakespeare’s day (including his own marriag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ideas about companionable marriage were emerging in Shakespeare’s time, thanks to Protestanti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The Theater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ourished because Elizabeth I and James I loved drama. If it had been up to the Puritans, the theaters would have been permanently closed.  (They were, in time, after the execution of Charles I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aters were closed occasionally because of the plagu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aters attracted and accommodated nearly all classes of society, from prostitutes to “stinkards” to no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The Theater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876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ng companies were sponsored by nobility (and even the monarchs).  This gave the actors protection -- otherwise, they would have been “masterless men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rd Chamberlain’s 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King’s 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” performances at amphitheaters like The Swan and The Glob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vate” performances at halls like Blackfri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The Theater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ctors were men; boys cross-dressed and performed women’s ro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were even full acting companies of boys,competed with the adult companies during the off-season when nobility visited their countryside esta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The End!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419360" y="3200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Politics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more centralized than during the Middle Ages, when squabbling feudal lords raised private armies and fought each other over la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dor monarchs mostly dealt with religion (inseparable from politics) and international affa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estic affairs (namely taxation) handled by parliament(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Life at Court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arch surrounded by an array of counselors (similar the President’s Cabine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zabeth I was surrounded by colorful characters: William Cecil, chief minister; Sir Thomas Gresham, financial minister; Robert Dudley, Master of the Horse; Francis Walsingham, principal secretary, initiated an intricate spy net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Life at Court cont.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body wanted to be in favor with the monar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arch’s favorites often obtained requests for land, money, marriage, or desired institutions like univers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coveted positon was to be Henry VIII’s Groom of the St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oyal Court was full of scheming, gossiping, and double-tal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Economy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al new class systems emerged during England’s Golden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as much mobility between classes as we experience n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ptuary laws: you had to be of a certain station to wear luxurious fabrics and colors (silk, purpl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Economy: social hierarchy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istocracy: persons of noble birth, possessed large estates, regulars at court and/or parlia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try: descendants of the aristocracy, smaller land holdings, often obtained their wealth through business monopo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tizens: urban trades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omen: rural equivalent to the urban merch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Economy: lower and new classes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ants, laborers, peasants: owned little, made their living working for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digent: beggars, those who were unable to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wyers: new emerging class at Inns of Court, well 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terless men: wandering ex-soldiers, swindlers, or entertai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London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495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ed on three sides (ancient Roman boundaries), fourth side bordered by the Thames Riv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rcial London essentially run by guilds (kind of like labor unions, but even more specializ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tter ran down the middle of the streets for wastewater and sew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per stories overhung lower stories, made streets feel even more crow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The Suburbs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ed the “Liberties”; not really under the jurisdiction of the City of Lond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n for petty criminals, masterless men, prostitutes, lep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ion of the theaters (the Master of the Revels and Puritan authorities hated the theater, but they had less reach on the Banksid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3:32:24Z</dcterms:created>
  <dc:creator>Kathryn Henderson</dc:creator>
  <dc:description/>
  <dc:language>en-US</dc:language>
  <cp:lastModifiedBy>Lawrence Public Schools</cp:lastModifiedBy>
  <dcterms:modified xsi:type="dcterms:W3CDTF">2008-01-28T15:06:08Z</dcterms:modified>
  <cp:revision>2</cp:revision>
  <dc:subject/>
  <dc:title>Shakespeare’s England</dc:title>
</cp:coreProperties>
</file>